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F6A-2A51-40DA-B425-9BF70C84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6FB-BFDF-4F29-A50C-0585BC11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D67-BC36-46C1-B183-4FA749DE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54C-520F-48E0-85BD-922AFDF4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744-EAF9-49B7-89D4-0783E430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529-FAB6-4B88-AB16-535FDF33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FA1-2263-4B6C-9AA0-56D7634A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0B6-32E1-40A3-9FC5-96C02084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8F5-64C2-469F-9F2D-B7431F55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5A8-C015-4841-B1B2-5720C16B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4D5-AF39-46FD-AEF3-68993BD6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5D2-CE4A-41C3-9F15-364070BB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375C-0274-49DC-B8D0-F4B2642C68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61800" y="139680"/>
            <a:ext cx="1009800" cy="130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Arial"/>
              </a:rPr>
              <a:t>Decision Models:</a:t>
            </a:r>
            <a:br>
              <a:rPr sz="3600"/>
            </a:br>
            <a:r>
              <a:rPr b="0" lang="en-US" sz="3600" spc="-1" strike="noStrike">
                <a:solidFill>
                  <a:srgbClr val="ee0000"/>
                </a:solidFill>
                <a:latin typeface="Arial"/>
              </a:rPr>
              <a:t>Movie Selection</a:t>
            </a:r>
            <a:endParaRPr b="0" lang="en-US" sz="36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son Co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 Ke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o Larum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Spel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Weisle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600200"/>
            <a:ext cx="86108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5496120" cy="212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43200" y="4191120"/>
            <a:ext cx="61056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Evolutionary Solver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is is where the movie magic happ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003480"/>
            <a:ext cx="91440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 to our troubled couple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if you are single, alone, unsocial, and have no friends?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ission is Impossible for thi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than Netflix, 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of relationships will be sa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ppiness will grow in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made our contribution to Huma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deserve a big, fat “A+” for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3818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0357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18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579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vil that is…Evolutionary Sol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blem? A common 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match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arch for Common Grou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ow? C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e H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tty Wom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ly coexist on a Friday n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experts researched hundreds of movies to make a solid mod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ompiled a sample of 300 to give you a glimpse of what this is about, and how it 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…the DATA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ovie was categorized based on its Budget, Genre, Rating, Runtime, Year, and Oscar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8991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then ask the user(s) which of these criteria they prefer in their “ultimate” movie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2963880"/>
            <a:ext cx="3591000" cy="3513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35910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final step, we ask the user(s) to allocate a set of 100 points among each of their preferences.  We call this the “Willingness to Compromis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305748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95800" y="3048120"/>
            <a:ext cx="305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matches user selections and weights to the actual characteristics of the movies in our data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alties = how far user selections stray from actual movie characteristics AND how much these selections are weighted.  This is done for each fil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480" y="4191120"/>
            <a:ext cx="76788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4260960"/>
            <a:ext cx="7467480" cy="23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93760" y="5334120"/>
            <a:ext cx="914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23:20:15Z</dcterms:created>
  <dc:creator>Mark Spelber</dc:creator>
  <dc:description/>
  <dc:language>en-US</dc:language>
  <cp:lastModifiedBy>Judson Coplan</cp:lastModifiedBy>
  <dcterms:modified xsi:type="dcterms:W3CDTF">2006-04-23T21:39:07Z</dcterms:modified>
  <cp:revision>22</cp:revision>
  <dc:subject/>
  <dc:title>Slide 1</dc:title>
</cp:coreProperties>
</file>